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17913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49B-8D00-46BA-8607-CD0887B9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30765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1440" y="1377000"/>
            <a:ext cx="30765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DA2-4088-4B77-B4B1-0098283F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82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1440" y="137700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8240" y="137700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2E9-3BF1-43BD-9573-4860025A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11840" y="66024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1880" y="66024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1440" y="137700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11840" y="137700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1880" y="1377000"/>
            <a:ext cx="9903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875-C44A-4D2D-8D74-62550C77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1440" y="660240"/>
            <a:ext cx="30765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E62-DD2E-4381-BC2A-465C2248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307656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F45-41A6-489E-B3BB-6CEDD8E7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150120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8240" y="660240"/>
            <a:ext cx="150120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9FE-48C6-43BA-BE64-54955E6B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7AA-CFB9-440C-BBE9-43436571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1440" y="202680"/>
            <a:ext cx="30765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C52-BDCD-44C3-A290-1F853F2F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8240" y="660240"/>
            <a:ext cx="150120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1440" y="137700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091-23A8-412E-998C-C7599F38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150120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82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8240" y="137700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496-86CB-4A58-9CFB-4672BD73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14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8240" y="660240"/>
            <a:ext cx="150120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1440" y="1377000"/>
            <a:ext cx="3076560" cy="6541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2B8-BE2B-4CF1-A12A-34A512EE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1440" y="202680"/>
            <a:ext cx="3076560" cy="38124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1440" y="660240"/>
            <a:ext cx="3076560" cy="13716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8000"/>
          </a:bodyPr>
          <a:p>
            <a:pPr marL="110160" indent="-110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40120" indent="-903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70080" indent="-727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519480" indent="-723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668880" indent="-73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668880" indent="-73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668880" indent="-73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1080" y="2082600"/>
            <a:ext cx="754200" cy="152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36600" y="2082600"/>
            <a:ext cx="1146240" cy="152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93440" y="2082600"/>
            <a:ext cx="754200" cy="152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fld id="{418EE9A0-4A6E-401A-BE6E-72CD8068A4FD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mic Sans MS"/>
              </a:rPr>
              <a:t>Tim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mic Sans MS"/>
              </a:rPr>
              <a:t>Interru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5228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Empfang v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Zeich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5228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Senden v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Zeich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3716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toko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s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1" idx="2"/>
            <a:endCxn id="44" idx="1"/>
          </p:cNvCxnSpPr>
          <p:nvPr/>
        </p:nvCxnSpPr>
        <p:spPr>
          <a:xfrm flipH="1" rot="16200000">
            <a:off x="324000" y="894960"/>
            <a:ext cx="1105200" cy="533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6" name=""/>
          <p:cNvCxnSpPr>
            <a:stCxn id="42" idx="2"/>
            <a:endCxn id="44" idx="0"/>
          </p:cNvCxnSpPr>
          <p:nvPr/>
        </p:nvCxnSpPr>
        <p:spPr>
          <a:xfrm rot="16200000">
            <a:off x="1371600" y="990360"/>
            <a:ext cx="7624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7" name=""/>
          <p:cNvCxnSpPr>
            <a:stCxn id="44" idx="3"/>
            <a:endCxn id="43" idx="2"/>
          </p:cNvCxnSpPr>
          <p:nvPr/>
        </p:nvCxnSpPr>
        <p:spPr>
          <a:xfrm flipV="1">
            <a:off x="2362320" y="609480"/>
            <a:ext cx="533520" cy="1105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19:10:51Z</dcterms:created>
  <dc:creator>Walter Borst</dc:creator>
  <dc:description/>
  <dc:language>en-US</dc:language>
  <cp:lastModifiedBy>Walter Borst</cp:lastModifiedBy>
  <dcterms:modified xsi:type="dcterms:W3CDTF">1999-09-06T11:02:12Z</dcterms:modified>
  <cp:revision>2</cp:revision>
  <dc:subject/>
  <dc:title>Kein Folientitel</dc:title>
</cp:coreProperties>
</file>